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80F-460B-4E8F-BF01-8573F06A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5B7-299F-4682-A323-B0161BFE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2F4-52FA-4C22-AA69-C51BE95E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5EA-70FB-432B-A7C0-88DC7026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978E-DB80-4757-A5DA-2A5421B9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AD6-75D9-4C8A-8CBF-9815C190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16F-B8FF-4DA3-90B3-5E8E6755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96F-E5DD-49D5-9C5C-07F373FC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8F31-123F-4CE9-90A6-8581AA4C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70C-C089-4FED-B745-B06437FF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1D3-7689-4C07-B457-FE66B2D4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08B-9448-48CD-AE70-E5E14F50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1CFE-4602-4314-BA78-B70BF20DA550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TIC6_col</cp:lastModifiedBy>
  <dcterms:modified xsi:type="dcterms:W3CDTF">2010-03-24T10:26:26Z</dcterms:modified>
  <cp:revision>20</cp:revision>
  <dc:subject/>
  <dc:title>Slide 1</dc:title>
</cp:coreProperties>
</file>