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CF22-BFCD-4CD2-86A7-3F55918F8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0E1C-092F-4BC7-B44D-C4F7A6FC9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1D2D-ED36-423A-96C3-FDFB97BF6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B200-4C06-47C0-A01E-8AAE439E3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B525-BCDC-4DE6-902D-6D5ED8C0E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F9FB-A1BE-4BDD-8565-DA307B28D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7085-CBB1-407A-B3BD-1E509FAD2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0459-D82D-45D0-9343-805C4E150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4AE5-405A-4AE3-AC2F-E0DD30C38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4E08-6E9B-40C9-9C41-5F8C5CB8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DACF-0331-4899-9A4E-7974F54F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20D9-4397-4AFB-B400-FAB83F3D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47E7B-1A01-443E-B9F8-D43CFA0C8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MIJLOACE DE MĂSURARE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pentru cultură de specialitate pentru Şcolile de Arte şi Meserii – domeniul mecanic- clasa a I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Adriana Popescu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- SIMULAR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4267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000000"/>
                </a:solidFill>
                <a:latin typeface="Arial"/>
              </a:rPr>
              <a:t>Mijloacel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 măsurare reprezintă totalitatea mijloacelor tehnice cu care se determină cantitativ mărimea de măsurat.</a:t>
            </a:r>
            <a:r>
              <a:rPr b="1" i="1" lang="ro-RO" sz="1200" spc="-1" strike="noStrike">
                <a:solidFill>
                  <a:srgbClr val="000000"/>
                </a:solidFill>
                <a:latin typeface="Arial"/>
              </a:rPr>
              <a:t> Şabloanel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unt măsuri terminale executate din tablă cu diferite profile, în funcție de piesele care se controlează.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icrometru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e un aparat la care deplasările unghiulare se transform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în deplasări liniare și care este utilizat pentru măsurarea lungimilor.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000000"/>
                </a:solidFill>
                <a:latin typeface="Arial"/>
              </a:rPr>
              <a:t>Lungime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o mărime fizică fundamentală în Sistemul Internaţion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Unitatea de măsură pentru lungime este metrul, m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000000"/>
                </a:solidFill>
                <a:latin typeface="Arial"/>
              </a:rPr>
              <a:t>Sticla plan-paralelă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o măsură terminală cu valoare unică, din sticlă, cu suprafeţe plane şi paralel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alele plan-parale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unt măsuri terminale a căror mărime este determinată de distanţa dintre două suprafeţe de măsurare plane şi paralele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tilizarea calelor se bazează pe proprietatea lor de a adera una pe alta, pe suprafeţele de măsurare, printr-o uşoară apăsare şi o mişcare tangenţială de deplasare, formându-se u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bloc de cal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care poate avea orice dimensiune. Dimensiunea blocului de cale este egală cu suma lungimilor calelor component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294336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lasificarea calibrelor nete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upă piesa pe care o controleaz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pentru arbo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pentru aleza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upă diametrul limită care verifică piese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partea trece T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partea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nu trece NT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 [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upă destinaţ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de luc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de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de recepţ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tracalib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Admin</cp:lastModifiedBy>
  <dcterms:modified xsi:type="dcterms:W3CDTF">2010-01-19T07:36:03Z</dcterms:modified>
  <cp:revision>21</cp:revision>
  <dc:subject/>
  <dc:title>MIJLOACE DE MĂSURA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