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B362-2911-4217-AC7E-2656C79EB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EF6E-A584-4F12-AE8F-6F8D622F0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E42DD-8559-4703-9F28-E6C06943B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46EEE-8FDC-4344-8B1E-873098CA1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8CA-1C5C-4FC3-BE5A-F6422AAF8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53D-505C-48F0-8E06-4D982F28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2E683-A79D-4672-A343-59B5A32F4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7FDD-E1BB-42D6-8DB1-A5E50027D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D569-7732-4CF3-AA65-8CC7CF6BC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5F8-C034-4572-B041-F7E248323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FF9-29CD-4CBF-AA7E-6B04A433B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8DB98-957C-4559-BAF1-6C54F6A0D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BED6F-8E38-4A2B-8FDA-053ED14D50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400" spc="-1" strike="noStrike">
                <a:solidFill>
                  <a:srgbClr val="000000"/>
                </a:solidFill>
                <a:latin typeface="Arial"/>
              </a:rPr>
              <a:t>ALTE ROMANE  REALISTE INTERBEL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09680" y="33523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</a:rPr>
              <a:t>Manualul de Limba şi Literatura Română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, clasa a X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-a, Doina Ruşti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2670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Ion (1920):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ersonajul titular al romanului ilustrează prin biografia sa situaţia satului românesc de la finele secolului al XIX-lea şi începutul secolului al XX-lea, din Transilvania, aflată în momentul acela sub ocupaţie austro-ungară. Destinul personajului este urmărit de-a lungul a două volume: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pământului 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şi </a:t>
            </a: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Glasul iubirii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Ion este sărac şi îşi doreşte cu ardoare să aibă pământ, să fie respectat şi iubit. El îşi îndeplineşte cu agresivitate idealul, trăind intens şi sfârşind dramat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Pădurea spânzuraţilor (192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este un roman despre conflictul dintre sentimentul datoriei şi cel al iubirii de ţară. Rebreanu creează aici un model de analiză psihologic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Răscoala (1932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surprinde psihologia colectivă într-un moment limită, în contextul evenimentului real de la 19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14480" indent="0" algn="just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Liviu Rebreanu – Gorila (1938):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prezintă mai ales interes documentar, deoarece transpune perioada legionară, într-o încercare meritorie de conservare a obiectivităţii de scriitor realis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35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 - SIMULARE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Teme şi evaluare orientativ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inim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caracterizarea a două personaje din Enigma Otiliei şi încadraţi-le într-o categorie umană sau socială. 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Prezentaţi trăsăturile romanului călinescian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Explicaţi ce se înţelege prin </a:t>
            </a:r>
            <a:r>
              <a:rPr b="0" i="1" lang="ro-RO" sz="1200" spc="-1" strike="noStrike">
                <a:solidFill>
                  <a:srgbClr val="000000"/>
                </a:solidFill>
                <a:latin typeface="Arial"/>
              </a:rPr>
              <a:t>hipercorectitudin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crieţi o scurtă compunere (20-30 de rânduri), la persoana I singular, în care să relataţi scena întâlnirii lui Felix cu unchiul său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ed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Alegeţi un citat din miniantologie şi comentaţi-l oral, cu referiri la subiectul operei în discuţ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ăsiţi în romanul lui Călinescu cinci informaţii despre epocă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Realizaţi în scris schiţa caracteriologică a cinci personaje din rom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o-RO" sz="1200" spc="-1" strike="noStrike">
                <a:solidFill>
                  <a:srgbClr val="000000"/>
                </a:solidFill>
                <a:latin typeface="Arial"/>
              </a:rPr>
              <a:t>Notă m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ce constă clasicismul operei lui Călinescu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? 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omentaţi în scris teoria lui Pascalopol despre sufletul mediocru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Caracterizaţi vocea auctorială din romanul călinescian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…]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NEE</dc:creator>
  <dc:description/>
  <dc:language>en-US</dc:language>
  <cp:lastModifiedBy>livia</cp:lastModifiedBy>
  <dcterms:modified xsi:type="dcterms:W3CDTF">2010-01-18T17:57:13Z</dcterms:modified>
  <cp:revision>15</cp:revision>
  <dc:subject/>
  <dc:title>ALTE ROMANE  REALISTE INTERBEL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