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D8E-234C-4B9B-8642-7B42EF80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290-FA38-4EB9-8137-0386555A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D56-10CB-4312-8558-606259B2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1FD1-009D-486C-88E8-1EE3A6EA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523-EB9E-4CC6-A814-85121FAE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2D0-A2FB-4F48-A700-D637E007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3F0F-DAAA-4C6F-8266-7E6E0B45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287-35AF-4C5E-97B7-DFDE8235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B2C-59F8-4B5E-9638-10687D83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4ED-BF4B-4E76-B7E1-D2CA982C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080D-6AC4-4927-B6FA-8F62B553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98F-2B97-4011-93B6-24610603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5C2A-92D8-4BFF-8113-03F7B8145F17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TIC6_col</cp:lastModifiedBy>
  <dcterms:modified xsi:type="dcterms:W3CDTF">2010-03-24T10:26:26Z</dcterms:modified>
  <cp:revision>20</cp:revision>
  <dc:subject/>
  <dc:title>Slide 1</dc:title>
</cp:coreProperties>
</file>