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3AC7-9894-4E5A-A816-6E84CC4E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F06B-EC36-428B-9EBE-3F9679A95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B2C0-89DE-4695-8317-D78DF6B2D7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FCC8-5960-4404-9BC1-11DC92085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62F2-D9BC-433E-B0D7-2E20F6D7D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FC21-E43D-466F-827E-35F07F5D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49F8-FF56-4C9E-ADB7-A7E2B4EA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D4E5-7CA4-4F36-85A6-EDEECDA2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C83C-5352-42B1-8816-F2B0E84D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879AE-D414-4653-8934-D940E5B8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DC1DA-6911-4217-B4F2-BFF4843F4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C12B-4AEF-436C-88AF-7DB7C30B1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09AD-E2AF-4062-BE47-B6F70395155F}" type="slidenum">
              <a:rPr b="0" lang="ro-RO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REGATUL DAC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28800" y="3886200"/>
            <a:ext cx="72864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(Adaptat după 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Manualul de Istorie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i="1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 clasa a IX-a</a:t>
            </a: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, Ioan Scurtu, Marian Curculescu, Constantin Dincă, Aurel Constantin Soare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228600"/>
            <a:ext cx="80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Examenul de bacalaureat 2010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68360" y="1341360"/>
            <a:ext cx="4248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Geto-dacii locuiau în spaţiul carpato-dunărean, făcând parte din neamul tracilor […]. Cea mai veche informaţie scrisă o furnizează Herodot care în anul    514 î.Hr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 îi aminteşte pe geţi, caracterizându-i drept  ,,cei mari viteji şi mai drepţi dintre traci”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]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interni: ,,liantul” religios bazat pe cultul lui Zalmoxis; progresul economic reprezentat de înfloritoarea civilizaţie a fierului; organizarea în triburi şi uniuni tribale conduse de şefi militari, având reşedinţe fortificate (dava); formarea aristocraţiei militare şi sacerdotale (tarabostes, pileati) […], devenită clasă politică conducătoare (majoritatea populaţiei o formau oamenii de rând, comati)[…]; puternica personalitate a unor căpetenii politico-militare, devenite adevăraţi regi locali, între care cel mai important avea să fie Burebista.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Factori externi. Aflaţi în plin proces evolutiv specific epocii fierului, geto-dacii au cunoscut diverse influenţe externe în planul civilizaţiei materiale şi spirituale din partea celţilor, perşilor, sciţilor, grecilor, romanilor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Situaţi în atenţia lumii greceşti până spre secolul al II-lea î.Hr., geto-dacii au intrat apoi în zona de influenţă a Romei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</a:rPr>
              <a:t>În plan politico-militar, creşterea ameninţării celte şi îndeosebi romane, a grăbit procesul de constituire a stăpânirii lui Burebista. […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267360" cy="32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Examenul de bacalaureat 2010 </a:t>
            </a:r>
            <a:br>
              <a:rPr sz="1000"/>
            </a:br>
            <a:r>
              <a:rPr b="0" lang="ro-RO" sz="1000" spc="-1" strike="noStrike">
                <a:solidFill>
                  <a:srgbClr val="000000"/>
                </a:solidFill>
                <a:latin typeface="Arial"/>
                <a:ea typeface="Arial"/>
              </a:rPr>
              <a:t>Proba de evaluare a competenţelor digital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– document de lucru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se recunoaşte client al Romei în anul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1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,,Cel dintâi şi cel mai mare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rege</a:t>
            </a: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 din  Tracia” a fost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ne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Pacea din anul 89 s-a încheiat între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Domiți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Caesar şi Burebi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800280" indent="-343080" algn="just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200" spc="-1" strike="noStrike">
                <a:solidFill>
                  <a:srgbClr val="000000"/>
                </a:solidFill>
                <a:latin typeface="Arial"/>
                <a:ea typeface="Arial"/>
              </a:rPr>
              <a:t>Decebal şi Caesa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4T17:24:23Z</dcterms:created>
  <dc:creator>c</dc:creator>
  <dc:description/>
  <dc:language>en-US</dc:language>
  <cp:lastModifiedBy>TIC6_col</cp:lastModifiedBy>
  <dcterms:modified xsi:type="dcterms:W3CDTF">2010-03-24T10:26:26Z</dcterms:modified>
  <cp:revision>20</cp:revision>
  <dc:subject/>
  <dc:title>Slide 1</dc:title>
</cp:coreProperties>
</file>