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90442-E92A-4DFB-A417-B2BBE6B367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C07A4-9CF4-4E91-8971-CF66FAEBC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F25C-0724-437E-9486-7365E4574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C8FD3-719D-4C48-A0C5-D4B2BB5AD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7CB9-604A-46FC-90C1-227839367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92F0-3D2E-487C-8900-5D0AC06D2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07CC4-BB73-4539-A66C-2EADCED80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0099-D66D-470F-AC48-3E3AFDFBF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C7CD9-6E4E-45DB-8673-9ECC964E33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EAD41-1504-41FB-B072-C846F3990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A6068-17B2-4851-9E52-691D1831B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2B678-411F-4646-A78D-612EBAB2F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2CCE7-8AA9-4D1D-A5C4-12D7A599D7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MIJLOACE DE MĂSURARE</a:t>
            </a:r>
            <a:r>
              <a:rPr b="0" lang="ro-RO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pentru cultură de specialitate pentru Şcolile de Arte şi Meserii – domeniul mecanic- clasa a IX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-a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, Adriana Popescu)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457200" y="228600"/>
            <a:ext cx="80010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- SIMULAR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426744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200" spc="-1" strike="noStrike">
                <a:solidFill>
                  <a:srgbClr val="000000"/>
                </a:solidFill>
                <a:latin typeface="Arial"/>
              </a:rPr>
              <a:t>Mijloacele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e măsurare reprezintă totalitatea mijloacelor tehnice cu care se determină cantitativ mărimea de măsurat.</a:t>
            </a:r>
            <a:r>
              <a:rPr b="1" i="1" lang="ro-RO" sz="1200" spc="-1" strike="noStrike">
                <a:solidFill>
                  <a:srgbClr val="000000"/>
                </a:solidFill>
                <a:latin typeface="Arial"/>
              </a:rPr>
              <a:t> Şabloanele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unt măsuri terminale executate din tablă cu diferite profile, în funcție de piesele care se controlează. 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Micrometrul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ste un aparat la care deplasările unghiulare se transform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ă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în deplasări liniare și care este utilizat pentru măsurarea lungimilor.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200" spc="-1" strike="noStrike">
                <a:solidFill>
                  <a:srgbClr val="000000"/>
                </a:solidFill>
                <a:latin typeface="Arial"/>
              </a:rPr>
              <a:t>Lungimea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este o mărime fizică fundamentală în Sistemul Internaţion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Unitatea de măsură pentru lungime este metrul, m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1200" spc="-1" strike="noStrike">
                <a:solidFill>
                  <a:srgbClr val="000000"/>
                </a:solidFill>
                <a:latin typeface="Arial"/>
              </a:rPr>
              <a:t>Sticla plan-paralelă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este o măsură terminală cu valoare unică, din sticlă, cu suprafeţe plane şi paralele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Calele plan-paralel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sunt măsuri terminale a căror mărime este determinată de distanţa dintre două suprafeţe de măsurare plane şi paralele. 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Utilizarea calelor se bazează pe proprietatea lor de a adera una pe alta, pe suprafeţele de măsurare, printr-o uşoară apăsare şi o mişcare tangenţială de deplasare, formându-se un </a:t>
            </a: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bloc de cale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, care poate avea orice dimensiune. Dimensiunea blocului de cale este egală cu suma lungimilor calelor componente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[…]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8" descr=""/>
          <p:cNvPicPr/>
          <p:nvPr/>
        </p:nvPicPr>
        <p:blipFill>
          <a:blip r:embed="rId1"/>
          <a:stretch/>
        </p:blipFill>
        <p:spPr>
          <a:xfrm>
            <a:off x="5257800" y="1752480"/>
            <a:ext cx="294336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Clasificarea calibrelor neted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upă piesa pe care o controlează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2193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libre pentru arbor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2193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libre pentru alezaj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upă diametrul limită care verifică piese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2193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libre </a:t>
            </a: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partea trece T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2193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libre partea </a:t>
            </a: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nu trece NT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 […]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după destinaţi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2193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libre de luc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2193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libre de contr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2193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libre de recepţ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12193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ntracalib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Admin</cp:lastModifiedBy>
  <dcterms:modified xsi:type="dcterms:W3CDTF">2010-01-19T07:36:03Z</dcterms:modified>
  <cp:revision>21</cp:revision>
  <dc:subject/>
  <dc:title>MIJLOACE DE MĂSURAR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