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FCBA-60B3-41C6-BCFF-4FA7BB21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465E-555A-4C8A-B838-606F5F88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4D4C-058C-41AE-BCA4-5D7FE28C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1AE8-12E1-4305-B2A8-F398FD9B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EEF2-B327-4E42-BB6E-48B7112E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71EE-5D3C-4026-B60C-0C75350A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C1BB-1F0D-4803-B2BF-7481C2F3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8BD4-2C1F-4AB8-ACBA-A942ECFE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00DB-33C6-4274-8A0E-F84E5C28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CC31-843D-40F1-B891-F03AB229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6544-537E-4149-BED3-D53B78D8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BFD0-CD55-4CCB-9FA9-A42A040C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684B-D472-485B-AFC0-A5BBAE4F42E6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ATUL DAC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886200"/>
            <a:ext cx="728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Istor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, Ioan Scurtu, Marian Curculescu, Constantin Dincă, Aurel Constantin Soare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341360"/>
            <a:ext cx="4248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to-dacii locuiau în spaţiul carpato-dunărean, făcând parte din neamul tracilor […]. Cea mai veche informaţie scrisă o furnizează Herodot care în anul    514 î.H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i aminteşte pe geţi, caracterizându-i drept  ,,cei mari viteji şi mai drepţi dintre traci”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interni: ,,liantul” religios bazat pe cultul lui Zalmoxis; progresul economic reprezentat de înfloritoarea civilizaţie a fierului; organizarea în triburi şi uniuni tribale conduse de şefi militari, având reşedinţe fortificate (dava); formarea aristocraţiei militare şi sacerdotale (tarabostes, pileati) […], devenită clasă politică conducătoare (majoritatea populaţiei o formau oamenii de rând, comati)[…]; puternica personalitate a unor căpetenii politico-militare, devenite adevăraţi regi locali, între care cel mai important avea să fie Burebista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externi. Aflaţi în plin proces evolutiv specific epocii fierului, geto-dacii au cunoscut diverse influenţe externe în planul civilizaţiei materiale şi spirituale din partea celţilor, perşilor, sciţilor, grecilor, romanil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tuaţi în atenţia lumii greceşti până spre secolul al II-lea î.Hr., geto-dacii au intrat apoi în zona de influenţă a Rom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plan politico-militar, creşterea ameninţării celte şi îndeosebi romane, a grăbit procesul de constituire a stăpânirii lui Burebista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267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se recunoaşte client al Romei în anu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,,Cel dintâi şi cel mai mar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reg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 din  Tracia” a fo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n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Pacea din anul 89 s-a încheiat înt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Domiț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Caesar şi 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Caes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24:23Z</dcterms:created>
  <dc:creator>c</dc:creator>
  <dc:description/>
  <dc:language>en-US</dc:language>
  <cp:lastModifiedBy>TIC6_col</cp:lastModifiedBy>
  <dcterms:modified xsi:type="dcterms:W3CDTF">2010-03-24T10:26:26Z</dcterms:modified>
  <cp:revision>20</cp:revision>
  <dc:subject/>
  <dc:title>Slide 1</dc:title>
</cp:coreProperties>
</file>