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DEA3-D0FC-4BFF-A50E-54D16C2AE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63A2-A46B-462C-9D24-D8571E962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E672-6593-4D9D-A7F8-5AF51CD7A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1E12-043D-49C1-AD6F-F0E248B27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AC0C-720E-4DEB-8179-645002FAF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5496-A43D-4BC9-A3DE-1609AC2CF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7A2C-2F99-4B27-A89B-6DAB6887C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1E7D-12B2-4DF6-A08F-CA70C6C44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8449-7BA0-467E-B39C-9DB44878D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ADEA-C869-49B9-8659-CBC305CE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7DA5-7932-42A9-BFDB-B37D5C310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9103-887A-4369-ADFE-36A17536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8A759-03E8-4056-B1DE-7CFD2D7802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LTE ROMANE  REALISTE INTERBEL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clasa a X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a, Doina Ruşt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Ion (1920):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pământului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i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iubiri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Gorila (1938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livia</cp:lastModifiedBy>
  <dcterms:modified xsi:type="dcterms:W3CDTF">2010-01-18T17:57:13Z</dcterms:modified>
  <cp:revision>15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