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DDE8-C27C-4EA2-A8E4-C97F14632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C15E-C340-4271-83B5-FD8D9E14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84BF-59FD-4AAD-9EED-5B071DEB8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CA44-4EEF-4C12-A95F-252917AAA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6CBD-E9A7-40D5-94DF-7B98DD78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176E-5CE4-4B23-B1FF-C3BEBA5C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19BB-B7F1-495A-9815-483D089E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9452-D7CD-4757-BE1C-C835F6F2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BC6C-1883-43D6-8A42-8329001B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C579-6B96-4AEE-A89F-6DE9689B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652E-0451-435D-8A14-97E90975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A806-FF5B-48A8-862B-6617F527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8659-0EFF-4DA8-9EE8-076F9F925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PROCESE PSIHICE COGNITIVE SUPERIOAR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GÂNDIREA</a:t>
            </a:r>
            <a:r>
              <a:rPr b="1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psihologie, clasa a 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Elena Lupşa, Victor Brat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nivelul cel mai înalt de prelucrare şi integrare a informaţiei despre lumea externă şi despre noi înşine. Prin ea se realizează saltul calitativ al activităţii de cunoaştere d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la particular, accidental la general, esenţial, necesar, de la simpla constatare a obiectului la interpretarea şi explica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i legic-cauzal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ândirea este procesul psihic de reflectare mijlocită şi generalizat-abstractă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ub forma noţiunilor, judecăţilor şi raţionamentelor - a însuşirilor comune, esenţiale şi necesare ale obiectelor şi a relaţiilor legice, cauzale dintre 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mijlocit al gândirii constă în aceea că ea nu operează direct asupra realităţii, ci asupra informaţiei furnizate de percepţii şi de reprezentări. Desfăşurarea ei presupune totdeauna fie o informaţie care se extrage, în prezent, în cadrul contactului senzorial cu obiectul, fie o informaţie extrasă din tezaurul memori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ul general-abstract al gândirii rezultă din aceea că ea se desfăşoară permanent în direcţia evidenţierii însuşirilor generale şi esenţiale ale obiectelor şi fenomenelor şi a subordonării unor modele ideale generale (noţiuni, principii, leg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a este capacitatea de a rezolva probleme. În această accepţiune, gândirea se apropie de inteligenţă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32958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sihologul american, J. P. Guilford, a propus un model larg acceptat al structurii gândirii, format din trei componen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peraţ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valu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con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ândire divergent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memori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gniţie sa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unoaşt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onţinutu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portament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emantic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mbolic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igu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rod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nităţ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l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laţ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stem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transformăr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mplicaţ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6:43Z</dcterms:modified>
  <cp:revision>15</cp:revision>
  <dc:subject/>
  <dc:title>PROCESE PSIHICE COGNITIVE SUPERIOARE - GÂNDIRE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